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C5A-EBB2-4544-B170-4E60C8BE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EF7-4183-401A-A36D-9DD69E03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36CF6-E979-481A-9F18-1B5EB581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19E42-9461-4A3F-9C66-7E4D01CC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D2D87-522F-4794-B215-689EA164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E1ABD-4659-450B-B7F8-2565289F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D178C-89DA-4BDC-AB0F-30374D42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70F3D-1B26-4C06-B116-1908F52F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F8B56-1EF7-49D6-96B9-B20A68E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9B5B0-B1EB-4C4F-AEA1-A0789C20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54C1F-C3D0-4CB6-8459-734BDC07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66DD2-09D0-4F52-ACB8-36894D23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3A5-DFB6-41E2-BA5C-74468A35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DCF64-79EB-46FD-A418-3A9F8B31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463BE-FAD3-4E06-9BD1-55D213E5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9601A-3514-4349-8CB9-F0CCA37A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20BF6-E7EB-4038-92FC-9F4E0519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F467A-77B7-4CF2-892F-6DC3F034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F980C-66F9-4EB9-A673-5D3EC441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5F99F-473B-4053-BEA3-FF905939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05693-0108-4F06-BFA2-B0D0510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4211F-C11D-4BEC-B637-F0F8F651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8DAED-8C94-4C42-8F59-7CF87ADC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76C-05E3-439F-9735-7442ED8F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EA34C-96D1-4748-A2B8-F82F512B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AC29A-F695-45D7-8B48-40180C10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7B99F-6FE4-4896-9EF4-D07A5B77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E68EC-AF91-4DEB-B17A-908DF1B9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E63EE-17F7-4771-BBB5-77ED1703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DBE56-750D-4CBF-A7B8-80A99D2D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337D8-9D56-4DE0-AFB9-750A8491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497F6-62AD-4117-B2A1-5B1EA7B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73788-7FB3-4EEC-89EF-22FF31B6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DA9D1-8D0A-46E2-944F-41F8A068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4ED8-E0D5-42EA-8BC7-A78D66F1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3D8EC-9E0D-437E-8C76-2EEE8DED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CCBAF-A9C1-4882-89E3-69159466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68D1C-A6B2-4E14-AF97-5CC19B1A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936B7-6BDD-43AB-B9CE-E479CF4B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20BEB-7A28-4902-98C6-BBAD4AA8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45AC4-521E-4454-A2BC-87F94EA9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2E88C-6641-43B8-BB71-6A8598E2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9052E-7BFD-4933-823C-C0C792DA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5936D-1B1B-4F60-AA1D-66359BA6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35D27-B2B5-44FE-BE3C-C4049086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9531-9380-4F34-855D-532BBC2A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7E29D-61B7-46D9-AD45-BF72C622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8D1C4-08B9-488F-98C4-D2F30EA6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BFFB0-E94B-4707-A9D6-64FC2A75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C8ABD-AC0C-435F-BBC2-A3431893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5CF19-E116-4804-9D72-6C26449E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4ACD9-02DC-4953-B388-4AB9E9F8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801CB-949F-47B5-B21E-2958E34D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972DD-4AFE-4AFB-85E2-AE1E56CF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98591-7CD7-4D29-9137-C4464B86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80006-8C61-4251-8A2F-6355BA1B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31D9-53FC-4B6C-8033-D80C8C6F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3784E-384B-432A-A1A3-1436720F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B0BE2-44FF-4350-AA8E-39C6A24F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7D36E-8931-4C3C-8959-06F8B2F1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68F6A-DBBA-4AF7-847B-287910E9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83B01-A858-468A-AAC0-6D438848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5FD42-8624-41E9-804C-A7C1EAE9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4869A-D4C5-4E1B-AF4F-CE97990A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65B96-29B7-4621-8F2A-E62ED2EB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CE891-0AFE-474D-8FF4-A2DD4E46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22584-29E6-4ED3-BF04-41344513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E0E0-C21A-42A9-AA30-0D7994FF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DCA25-1E15-4FF9-AAEC-6F584159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BF31E-7B6A-4FAF-8B9A-B7E8B1AC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9885B-F30F-4621-858C-8E57828F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275E7-2C31-4F68-B48E-FB5C1459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C48AF3-BA28-40B5-A893-49A9FB34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0D219-1848-4093-B397-87CE102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8955A-C1D9-4AE8-937C-9F411B4D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A7D94-8616-4EB1-8E29-5EDE34CB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D497A-984C-4DC5-856C-DA235789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FE867-A00D-4542-B3F1-B2B36232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3C9A-E80E-45B3-9C7D-67AA99A7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E1CF1-3407-4C08-8836-21BE478B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A9488-C080-426A-B508-58B93159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235CFC-462E-40D8-A6EE-BB9EA6F9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69E5E-0DEB-431E-8D0C-167DE2DF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DF90B-27E1-4CB3-B2D2-C968D69C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C3758-BEB2-4898-BBD3-E68E7395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47E46-AE81-4EA2-BDB1-816C796F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B06D5-65AB-4DA7-8A52-C4E3552C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7CD09-1380-4FBA-A9AE-586BF7BA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70372-BE31-4BEC-AFF6-ED93FC0D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042D-F5CA-47F9-8DED-B8360716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4D1AF-5B48-43F1-B851-9DD45FF1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2A28C-0E38-4A12-948C-6C2B32FC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DADC3-B9E4-43AE-B15D-A2945DA0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D1AD4-880D-4782-957F-FD03E69C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73187-E53B-493A-89C6-A665F1B7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555A2-A7C9-421D-853E-82E646C9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A9414-A591-4930-B2B2-D18FEBFB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6C2DE2-5157-40A7-B294-E23C244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D7643-9BA9-485D-8DD7-01F8CAE8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F4B01-B331-494B-AB67-9D1F934A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B3A3-130C-497D-885E-F8EE65A2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35549-6F50-4120-A143-24395F41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551CC-D6C1-4785-8F66-AE4D855F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564CE-7F97-4C07-8CD0-2E939051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7C5268-AEAB-434A-86F3-DEECDE59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446E3-ABAA-49B6-B375-0285E2C6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08CFB-35C7-420D-A8D8-C4772AA5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D71E1-4463-460E-A726-F3E3B6C2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835FD-BF31-4D3D-8043-BE13077E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0B291-A138-4EB6-B607-DB39DEB9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0CEFF-9FEC-4C50-9F39-33D2C61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FFC-A487-4451-A947-3C5D284D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E7A2-F7CB-4474-8A50-D7C87CAF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7F772-1787-40E5-B4B2-8C93E888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E201C-0441-47C7-9698-D3767D8D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641E8-359C-48A7-A27D-8DF9E95A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11BB57-7575-4879-BF1B-FC0FCC53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DF625C-3ECA-4DE9-B92A-88D43531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F859A3-D461-4A29-B204-64BCBD8F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E1B741-9D1A-4669-89D4-40E2547D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8D31F-88CA-4625-8449-42746936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1E4CE-2026-4FDE-A817-4A3F9A1B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69D82-394A-4114-B5EE-6FAC8C79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F637-1F25-48C6-9B0E-A25426C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E7BE9-1BD5-4FD5-84B2-F911C4A7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76DA95-0566-4D6F-9D94-63BBB6E7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30DD5-D8E5-4B81-A548-485013B9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95B523-8F0F-427E-87CA-FAD5DAF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871874-E9FD-4DB8-999C-CEE2E66E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AAFF93-0DBF-45B0-97CB-24E01A21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1B320-4EA1-489B-9A89-98F41497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C902CB-AE82-4DB5-9C89-AC565FC9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1A14D-2694-40B6-9058-A3749ED3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2237E1-27E2-4716-A34A-7E37ADE4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2550-AEBB-452D-ADAB-938657D4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F2589-785E-4C88-905F-20E3BD3D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B0CB7-C4FC-49F1-AB1C-BE9A8840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3C4A67-38A6-4907-9611-88FD79E6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7195A8-A67A-47BB-BE14-82A83CE0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CE1B3-AE0E-4E39-BC78-B6042F2C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6D07D6-25CD-4C87-88F7-F5B0B0DC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2BD019-4C6C-4F4A-8E03-92ED3B88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A9D9AD-45B6-4C5F-A63B-05EE1430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63DFA-3C68-48F9-9595-998620AB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7584A-1157-4B7C-8F5D-AB5CFCB5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5F14-1072-4963-9A34-A1B98EE7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F04CEF-4510-4E56-BC0C-BD82D7E6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451761-1990-40A6-82DD-63B3B128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8A112-B18D-49FF-B3D4-34A09561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87EE3-6844-4E7E-9DB3-903F3F8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A917C-C839-47F4-AC42-9FBBE9B9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ED149-0F2D-46CE-9AE5-4EFEC67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29877-2BF9-4C73-B8C5-AD554D7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C9CC9C-4D3B-49A6-8520-1EA8ED32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2AB8CF-B478-4866-8348-31B901F6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F36DC2-3D23-45B4-96F8-FBACAEA8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B28C-67D1-445F-9FCC-5458AAAC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47478-8CC0-4DFA-9FBA-A21746D5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185DFB-859B-4AAF-81CE-48BDE77B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7F3DF-D42A-453A-83A5-B1EB14AD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B71818-7508-4046-82EF-BD192B71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0F4E63-4EA3-4145-AA22-9B3D7203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600437-C282-46B0-A7A7-47A89296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86A02-2A2A-4C64-BDFE-A5E4A1CD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524A26-A1F4-4BB6-AD6D-A0AF7BC6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022B4-3107-4DC4-94BD-0F9B86EE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B706AC-C679-41F0-A7E5-C1779FF7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A20D-36E2-4190-895B-ED3AF9CA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6EF8D1-7EA3-489E-9579-87565411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9AC56-699F-484A-B2BE-B1C70ECE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330ECB-0691-401A-B966-05A1D6C0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471B-70BF-4F53-99E8-8896689C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6B3B-EDE8-453F-86EA-C0AFB47E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0812-6F97-4AEF-934C-5AFD2170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EB12-1F21-49D0-B46E-0229AB65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A09-1A1A-4A77-95A0-B15045AF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CE7F-082F-49D0-BA7D-D436A475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54F6A-B0BA-45B2-936C-C41BEA18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3814-564F-4FA9-94A1-E6470240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AC3D-A2CB-445A-A3BB-AE37DFAE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3F34-D6E6-4789-B0F4-A1066B31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2578-F69E-4EE1-8AD6-43448896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2DDBF-3D8B-4C7F-BCB5-4531C23D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A394-6B6B-4380-97C3-497F4612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F3DB1-72B6-4DB6-9B67-2DF7974F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E6E2-6FC1-4584-BA8A-AA2D2A16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153-C473-4CCE-B3AB-E45CA964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2869-52E4-4A77-877D-425618F8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AD9E0-0B99-4A0F-BD7A-A43B32B3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D475F-E0FF-4676-9739-5B9FC86D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60186-4828-4CF5-A6D4-56D5B226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D633D-7717-4255-9F3B-D896D7E7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7999-BE1E-42B3-BA57-50810722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D6EB-741E-409D-9146-E1EF8080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D9E3D-6C67-4DBA-B5B8-3AFE5F83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0D90-70E2-40CE-9CDB-074F0ADE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2B08F-E4EC-42D2-8349-38B8ACF3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E5A-A948-4981-BFF6-D1444334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6A5A8-BDF3-4961-AA43-4AEBC208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E566A-4670-4EEB-B246-9BA6B8FE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5D5FE-2923-474B-B2AB-7BAC7084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AE10D-4638-4732-AC09-AA26E8E2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8435E-B4D2-40DB-95EE-8AAE32FB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DD441-855B-4701-ADA3-EE8DF4B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9B7AB-D700-4DA6-86B4-38FFFA2B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0DE81-7E16-41BA-A284-AAEEDF5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4FDD-388B-4180-B82D-63C730C1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78EEC-719B-4D98-B372-E60E7CE5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18A-93F4-4980-B1E1-9EF1391B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BAA91-85F4-48E0-90BD-D83507AC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52108-D1A6-4382-87C0-87EEA9D9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9459E-7D40-47A0-A76D-52212FA0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E5059-6022-4274-9A9F-78238675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EE34A-09DF-46CE-AA21-B9D87767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D2E2D-F805-4E11-8F13-D9FC8C6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83753-B5AA-4EBA-9DB5-AA8AA980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53A41-61C2-47BF-BF2A-A80FD072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5BFC3-3FB0-40C3-9D56-E39658E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455DD-43D8-4A07-BB24-1D7F3817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CFD-A411-4D30-82B1-9AB085C2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4CA1-D41E-4443-B894-5AAFCDFC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01C9F-D223-4D8B-B202-0A20A049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1613-B100-4F13-91C2-571237C1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E23D2-E1EC-438D-85F1-4E1ACAD5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D7C30-739E-475F-A85F-F4D723AB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63EFD-7632-4E55-A659-CC1331C1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852B7-3B02-46B6-900C-37FB30CF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42B83-5737-4386-9C03-6A37046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9897C-2DD7-4A10-9FB8-D3AC2CE2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89459-0746-45D8-91C8-A58953A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BDE-8B60-4C2A-9862-17A216F8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23EF-0607-4B95-8105-136D319D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A70CD-DE19-4F6A-8506-AD7B28C6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138FC-1EC6-40A8-8EED-91B5DDCE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5A52B-A73D-4531-8B21-AF744BC7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87584-EA4C-4C83-86AF-6CE0260D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C839F-F8F7-45C8-B33D-D2ABEA77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CE34E-75B8-42D1-B9FB-B56F7BC5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1AE1D-E044-4621-96BB-08CEDB81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FD3E0-CC7D-48BC-90EC-1754E231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4A589-D0D9-462A-9746-AADA9CDA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5E7-FC9C-428B-BD3A-1EDA3F01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00CBF-CBF5-4693-B90C-81C00630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F701E-2BA8-4DE1-AEC2-981E77D1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4E5CC-8334-4043-B6A7-899A81C7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03063-56EA-4F53-93F3-C91C1E11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26CC8-865C-442A-AA57-56548126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32816-7DB6-47E3-8C95-68EC10CA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EFA87-965D-4CB0-9F86-146AD09A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C10EA-94FD-40DC-B691-D678BFF7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BEE37-0D2C-43EE-9A1D-4E5CD40D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4B50B-BD7E-478B-9813-34130CA2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2793-A55B-4000-8184-5D5FAA4137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9681-7631-4FC2-AB4C-58B93FBEA8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2D36-1D2B-4E13-A6AA-D002850C33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1F92-3F08-4C97-9C49-04886CED54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8FBA-4B87-4DA3-B67E-6670C2908C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E5AA-0485-4D50-AE43-51DF56083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2984-39E3-4675-A6F9-4B6B0929EA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DCDF-CF2D-42A5-B173-EA03EE1D2A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B910-38B0-4109-BCCA-4E2AE7EA67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5CCF-7731-4728-BE98-775537A7D5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DF04-AF58-46A4-821F-CE19FA740D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6AB9-4A8C-41CD-A7E0-21E425926D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5257-BBE2-4A13-9707-23499C07AB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A359-C6BD-4A2E-AF72-97A3BA835B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0FAB-C163-4D5B-8B15-64E438FA1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A912-D9A6-4D8C-9D28-2D0C0FF140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B4EA-19A7-4F2E-A954-F4FF564681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B5C3-848B-43E4-ABEC-CE8137085F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E89C-2AF1-4AAF-832D-97F1088E37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369D-12B5-491A-984A-4011E10D79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74BB-8AC8-4C8B-A15D-2EA98AA43A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40AC-5B93-4C70-BA4C-0E04B879EE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AD6E-CF75-4F75-AEF0-E21023C4B0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5195-406E-4F38-99BA-86D562DC7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690C-D63E-42BF-A8EF-46357E1A50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94B1-9267-4D23-AB94-532B450B88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C252-E25B-4B80-9B38-9C2410BB1E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2693-6E8B-4117-84D7-7C9A54AD1B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C5C1-BEBB-4C59-B0D0-884E470BFC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E7C2-2257-4095-9667-0E8D0054EB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B1C4-5D20-436E-97FE-AF15F7BE84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9DF2-DB35-422D-9443-42E25422AD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D823-5923-4988-BF63-9DCF9D643D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B7DB-50F7-4EE6-A365-83757903F6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6F93-6DDF-452A-9285-E4C9E32DBF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697B-B7D0-4DF8-8BE5-18CE7B78E1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6474-4D6A-43BD-8FF4-5C4122212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14F1-EBD5-40A2-A3FC-5F1FEBDAB1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C496-C826-44E3-B210-4CC9352560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ED7B-40C4-416C-8D8D-59B0F281C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62880" cy="10861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162160" y="3181320"/>
            <a:ext cx="4819680" cy="89532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890640" y="4505400"/>
            <a:ext cx="73627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69633" descr=""/>
          <p:cNvPicPr/>
          <p:nvPr/>
        </p:nvPicPr>
        <p:blipFill>
          <a:blip r:embed="rId1"/>
          <a:stretch/>
        </p:blipFill>
        <p:spPr>
          <a:xfrm>
            <a:off x="133200" y="895320"/>
            <a:ext cx="8877600" cy="56293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2022480" y="5084640"/>
            <a:ext cx="720720" cy="936720"/>
          </a:xfrm>
          <a:prstGeom prst="rect">
            <a:avLst/>
          </a:prstGeom>
          <a:ln w="0">
            <a:noFill/>
          </a:ln>
        </p:spPr>
      </p:pic>
      <p:pic>
        <p:nvPicPr>
          <p:cNvPr id="975" name="图片 69635" descr=""/>
          <p:cNvPicPr/>
          <p:nvPr/>
        </p:nvPicPr>
        <p:blipFill>
          <a:blip r:embed="rId3"/>
          <a:stretch/>
        </p:blipFill>
        <p:spPr>
          <a:xfrm>
            <a:off x="1573200" y="3586320"/>
            <a:ext cx="6943680" cy="10382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4"/>
          <a:stretch/>
        </p:blipFill>
        <p:spPr>
          <a:xfrm>
            <a:off x="5435640" y="5113440"/>
            <a:ext cx="720720" cy="9363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5"/>
          <a:stretch/>
        </p:blipFill>
        <p:spPr>
          <a:xfrm>
            <a:off x="7451640" y="5113440"/>
            <a:ext cx="720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68609" descr=""/>
          <p:cNvPicPr/>
          <p:nvPr/>
        </p:nvPicPr>
        <p:blipFill>
          <a:blip r:embed="rId1"/>
          <a:stretch/>
        </p:blipFill>
        <p:spPr>
          <a:xfrm>
            <a:off x="576360" y="1433520"/>
            <a:ext cx="7991280" cy="3990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2"/>
          <a:stretch/>
        </p:blipFill>
        <p:spPr>
          <a:xfrm>
            <a:off x="1619280" y="3860640"/>
            <a:ext cx="720720" cy="87804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68611" descr=""/>
          <p:cNvPicPr/>
          <p:nvPr/>
        </p:nvPicPr>
        <p:blipFill>
          <a:blip r:embed="rId3"/>
          <a:stretch/>
        </p:blipFill>
        <p:spPr>
          <a:xfrm>
            <a:off x="1305000" y="2324160"/>
            <a:ext cx="7020000" cy="10666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5148360" y="3832200"/>
            <a:ext cx="720720" cy="8780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7250040" y="3832200"/>
            <a:ext cx="7207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图片 67585" descr=""/>
          <p:cNvPicPr/>
          <p:nvPr/>
        </p:nvPicPr>
        <p:blipFill>
          <a:blip r:embed="rId1"/>
          <a:stretch/>
        </p:blipFill>
        <p:spPr>
          <a:xfrm>
            <a:off x="866880" y="1197000"/>
            <a:ext cx="7410240" cy="218124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67586" descr=""/>
          <p:cNvPicPr/>
          <p:nvPr/>
        </p:nvPicPr>
        <p:blipFill>
          <a:blip r:embed="rId2"/>
          <a:stretch/>
        </p:blipFill>
        <p:spPr>
          <a:xfrm>
            <a:off x="77760" y="3452760"/>
            <a:ext cx="9031320" cy="21369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3"/>
          <a:stretch/>
        </p:blipFill>
        <p:spPr>
          <a:xfrm>
            <a:off x="4413240" y="1700280"/>
            <a:ext cx="879480" cy="4982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4"/>
          <a:stretch/>
        </p:blipFill>
        <p:spPr>
          <a:xfrm>
            <a:off x="7524720" y="1700280"/>
            <a:ext cx="879480" cy="4982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5"/>
          <a:stretch/>
        </p:blipFill>
        <p:spPr>
          <a:xfrm>
            <a:off x="4759200" y="2349360"/>
            <a:ext cx="879480" cy="4986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6"/>
          <a:stretch/>
        </p:blipFill>
        <p:spPr>
          <a:xfrm>
            <a:off x="7683480" y="2349360"/>
            <a:ext cx="879480" cy="4986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7"/>
          <a:stretch/>
        </p:blipFill>
        <p:spPr>
          <a:xfrm>
            <a:off x="2036880" y="3962520"/>
            <a:ext cx="879480" cy="4982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8"/>
          <a:stretch/>
        </p:blipFill>
        <p:spPr>
          <a:xfrm>
            <a:off x="5219640" y="3976560"/>
            <a:ext cx="879480" cy="498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9"/>
          <a:stretch/>
        </p:blipFill>
        <p:spPr>
          <a:xfrm>
            <a:off x="8373960" y="4005360"/>
            <a:ext cx="755640" cy="4982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10"/>
          <a:stretch/>
        </p:blipFill>
        <p:spPr>
          <a:xfrm>
            <a:off x="1692360" y="4653000"/>
            <a:ext cx="755640" cy="4986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11"/>
          <a:stretch/>
        </p:blipFill>
        <p:spPr>
          <a:xfrm>
            <a:off x="5191200" y="4653000"/>
            <a:ext cx="1109520" cy="4986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12"/>
          <a:stretch/>
        </p:blipFill>
        <p:spPr>
          <a:xfrm>
            <a:off x="7812000" y="4653000"/>
            <a:ext cx="11098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271440" y="1281240"/>
            <a:ext cx="8601120" cy="4295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1908000" y="4479840"/>
            <a:ext cx="1008360" cy="4986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7380360" y="4508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2556000" y="5027760"/>
            <a:ext cx="1008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23880" y="1457280"/>
            <a:ext cx="7896240" cy="3943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6300720" y="142704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5867280" y="2017800"/>
            <a:ext cx="1800360" cy="49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2089080" cy="498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4643280" y="3817800"/>
            <a:ext cx="720720" cy="979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7308720" y="4019400"/>
            <a:ext cx="720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547560" y="2048040"/>
            <a:ext cx="8048880" cy="2761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2050920" y="3040200"/>
            <a:ext cx="2305080" cy="498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2627280" y="364500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1547640" y="4221000"/>
            <a:ext cx="720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495360" y="1647720"/>
            <a:ext cx="8153280" cy="3562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735200" y="4797360"/>
            <a:ext cx="504720" cy="355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1806480" y="4321080"/>
            <a:ext cx="505080" cy="3556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4572000" y="4797360"/>
            <a:ext cx="504720" cy="355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4643280" y="4321080"/>
            <a:ext cx="505080" cy="3556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7164360" y="4768920"/>
            <a:ext cx="504720" cy="3556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7236000" y="4292640"/>
            <a:ext cx="50472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304920" y="1052640"/>
            <a:ext cx="8534160" cy="475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5076720" y="472428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5076720" y="414972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2340000" y="5243400"/>
            <a:ext cx="2160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504720" y="1690560"/>
            <a:ext cx="8134560" cy="34768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2771640" y="46674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2771640" y="4221000"/>
            <a:ext cx="648000" cy="376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3348000" y="4105440"/>
            <a:ext cx="1079640" cy="129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144440" y="4811760"/>
            <a:ext cx="1079640" cy="1299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7164360" y="4653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7164360" y="4206960"/>
            <a:ext cx="647640" cy="3762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7524720" y="4091040"/>
            <a:ext cx="1079640" cy="1299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5364000" y="4811760"/>
            <a:ext cx="1079640" cy="12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4276" descr=""/>
          <p:cNvPicPr/>
          <p:nvPr/>
        </p:nvPicPr>
        <p:blipFill>
          <a:blip r:embed="rId1"/>
          <a:stretch/>
        </p:blipFill>
        <p:spPr>
          <a:xfrm>
            <a:off x="700200" y="1862280"/>
            <a:ext cx="7743600" cy="31334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2627280" y="458136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2641680" y="414972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3132000" y="4019400"/>
            <a:ext cx="1152720" cy="144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855720" y="4738680"/>
            <a:ext cx="1152360" cy="144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6443640" y="456732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6458040" y="4135320"/>
            <a:ext cx="576000" cy="373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7020000" y="4005360"/>
            <a:ext cx="1152360" cy="144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4745160" y="4738680"/>
            <a:ext cx="115236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2231" descr=""/>
          <p:cNvPicPr/>
          <p:nvPr/>
        </p:nvPicPr>
        <p:blipFill>
          <a:blip r:embed="rId1"/>
          <a:stretch/>
        </p:blipFill>
        <p:spPr>
          <a:xfrm>
            <a:off x="171360" y="1757520"/>
            <a:ext cx="8801280" cy="3342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3348000" y="2549520"/>
            <a:ext cx="360360" cy="3556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3348000" y="2089080"/>
            <a:ext cx="360360" cy="3556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5724360" y="2435400"/>
            <a:ext cx="360360" cy="355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5724360" y="1974960"/>
            <a:ext cx="360360" cy="3553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7236000" y="2162160"/>
            <a:ext cx="6490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08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